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EE9D-6CBA-481A-BFF8-C7FE89B5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1F70-E660-4FB1-8D08-08EF832B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C511-07B5-4C18-A9CF-D439DEF6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F984-E3E0-48B0-9E2A-C2CB7C83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4494-96CC-42D7-868F-99DF437F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6A51-EF30-4D1D-8622-CCBD4B31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8765-F5D8-44AA-B815-D0554D4B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4CFC-7E64-4030-A5A3-F1F121B0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FBC1-9F01-4F82-8C89-BD2F198E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BA5E-D10B-420C-A7DC-E31500C5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0DCF-4B92-4F68-B24C-9BFFE9E9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2F80-5DC1-43AD-8F2D-B183B5B5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0D17-BF8E-4879-B9DD-97A3CFD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4617-F3BE-40B2-8E87-867A8935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341F-FCEE-4F25-8408-088C131B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1841-06CE-4380-A3F3-A02656CF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58B1-2AFE-48F9-8E6B-46C1DA3C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36AD-AAC2-4394-952E-3E03B87B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9411-32F2-4AD9-903D-ACE135B6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6799F-918C-40C4-AF96-7E9D4DCB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7644-1843-46A5-992E-308929DC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D27A-FF01-4AAC-8F88-E76E4A4E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01C6-62DF-4B82-8F62-9C58A281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1309-F7C4-4A38-BAD5-B4273E2A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E6E3-50CA-4F97-8E50-0BD95A3E591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EC99-4A75-4E38-ABC7-DCC7430EAD8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62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43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Дойдете, мили брат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дружно да реши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всички спиртни пит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леч ние да стоим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е тъй красиви са наглед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 причиняват зло навред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своя сладък вкус пленя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 робство ни държа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Пиянството е зъл поро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у кой да е народ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ран е кървав и жесто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убива тоз живот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как най-славни родов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 радост пълни домов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таз проказа, горкит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а поразени зл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8224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вижте тоз пияниц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й в кръчмите стоя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к скита в тъмна улиц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грозно е запял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з ум, без памет, без пар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ипан е от удар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валяй грозно във кал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рви към пропаст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28224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Затуй, разумни братя, ту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ахнете дружно с н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ез смъртоносни пит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тоз тържествен глас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ахни се, чашо, там далеч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ахни се там, че няма веч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те похванем никог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зло си на света!"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15T07:36:40Z</dcterms:modified>
  <cp:revision>197</cp:revision>
  <dc:subject/>
  <dc:title>Slide 1</dc:title>
</cp:coreProperties>
</file>